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FE83-90C9-4F48-A329-98F41E9C7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3646-6AD7-4264-815A-3ACACF20B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A4B-1295-4BDE-AF12-EC71370C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43C-0D2F-434C-AEF5-96FAE505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541-CC77-49C1-9CC5-32E2D456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D30-D26E-48A3-9F40-C725AFE2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310D-F610-4845-831F-D840D5F6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3EBF-A4D3-476B-AD22-710B73B7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978-CD21-44A1-8A26-DECD8808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714-F121-4B45-BF92-146EA86B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F5F-E063-4FDE-A441-2390B436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400-EDEE-4FBB-816C-FB48E394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022-5228-465B-901D-2537A5E3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772-A38E-4F4A-A3FC-39176B68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04E4-61D3-428E-B78A-33BDF09A5EC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1773360"/>
            <a:ext cx="784728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Sérnám lækna á Íslandi í kjölfar nýrrar reglugerðar 2015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3789000"/>
            <a:ext cx="77774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Reynir Tómas Geirsson MD, PhD, FRC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Fyrrv. prófessor/yfirlækn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Formaður, Mats- og hæfisnefnd skv. reglugerð nr. 467/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800" spc="-1" strike="noStrike">
                <a:solidFill>
                  <a:srgbClr val="000000"/>
                </a:solidFill>
                <a:latin typeface="Calibri"/>
              </a:rPr>
              <a:t>(Evaluation/Accreditation and Competence Committee (EACC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1f497d"/>
                </a:solidFill>
                <a:latin typeface="Calibri"/>
              </a:rPr>
              <a:t>Landssamband heilbrigðisstofnana 24.3.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HI"/>
          <p:cNvPicPr/>
          <p:nvPr/>
        </p:nvPicPr>
        <p:blipFill>
          <a:blip r:embed="rId1"/>
          <a:stretch/>
        </p:blipFill>
        <p:spPr>
          <a:xfrm>
            <a:off x="7740720" y="228600"/>
            <a:ext cx="1200240" cy="1290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-14400"/>
            <a:ext cx="9907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000" spc="-1" strike="noStrike">
                <a:solidFill>
                  <a:srgbClr val="002060"/>
                </a:solidFill>
                <a:latin typeface="Calibri"/>
              </a:rPr>
              <a:t>M &amp; h er “próaktíf” nefn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1341360"/>
            <a:ext cx="8640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2015-16: Gerð og viðurkenning marklýsingar fyrir starfsnám (kandidatsárið)(frá Bretlandi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+ viðurkenning námsstaða: </a:t>
            </a: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g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s-IS" sz="2400" spc="-1" strike="noStrike">
                <a:solidFill>
                  <a:srgbClr val="002060"/>
                </a:solidFill>
                <a:latin typeface="Calibri"/>
              </a:rPr>
              <a:t>Er verið að nota marklýsinguna, eru staðirnir að standa si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c00000"/>
                </a:solidFill>
                <a:latin typeface="Calibri"/>
              </a:rPr>
              <a:t>2016-2017: Mat á hinum 12 sérnámsleiðum, viðurkenning marklýsinga og námsstaða: </a:t>
            </a:r>
            <a:r>
              <a:rPr b="1" i="1" lang="is-IS" sz="2400" spc="-1" strike="noStrike">
                <a:solidFill>
                  <a:srgbClr val="00b050"/>
                </a:solidFill>
                <a:latin typeface="Calibri"/>
              </a:rPr>
              <a:t>í gan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Samvinna, þ.m.t. við sjúkrahúsin og heilsugæslu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Ráðgjöf til VEL um hvað þarf </a:t>
            </a:r>
            <a:r>
              <a:rPr b="0" i="1" lang="is-IS" sz="2400" spc="-1" strike="noStrike">
                <a:solidFill>
                  <a:srgbClr val="000000"/>
                </a:solidFill>
                <a:latin typeface="Calibri"/>
              </a:rPr>
              <a:t>(tími fyrir námslækna og kennara, starfslið í kennslustjórnun, mats- og viðurkenningarferli, aðgengi að erlendum kennslugögnum og samvinnu </a:t>
            </a:r>
            <a:r>
              <a:rPr b="1" i="1" lang="is-IS" sz="2800" spc="-1" strike="noStrike">
                <a:solidFill>
                  <a:srgbClr val="ff0000"/>
                </a:solidFill>
                <a:latin typeface="Calibri"/>
              </a:rPr>
              <a:t>= f</a:t>
            </a:r>
            <a:r>
              <a:rPr b="1" i="1" lang="is-IS" sz="3200" spc="-1" strike="noStrike">
                <a:solidFill>
                  <a:srgbClr val="ff0000"/>
                </a:solidFill>
                <a:latin typeface="Calibri"/>
              </a:rPr>
              <a:t>jármunir</a:t>
            </a:r>
            <a:r>
              <a:rPr b="0" i="1" lang="is-I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s-IS" sz="2000" spc="-1" strike="noStrike">
                <a:solidFill>
                  <a:srgbClr val="000000"/>
                </a:solidFill>
                <a:latin typeface="Calibri"/>
              </a:rPr>
              <a:t>Ráðgjöf/samvinna við VEL um reglugerð 467/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s-IS" sz="2000" spc="-1" strike="noStrike">
                <a:solidFill>
                  <a:srgbClr val="000000"/>
                </a:solidFill>
                <a:latin typeface="Calibri"/>
              </a:rPr>
              <a:t>Ráðgjöf til anna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Staðan nú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119700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Lyflækningar: sérnámsstaðir og marklýsing viðurkennd (RCP) fyrir 2-3 kjarna-á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Heimilislækningar með 22ja ára sögu um skipulagt nám, 3ja endurskoðun að klárast, viðurkenningar fljótle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Geðlækningar með lokagerð nýrrar marklýsingar, + viðurkenning fljótle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Svæfinga- og gjörgæslulækningar með lokaútgáfu í samvinnu við RCoA; bráðakjarnaleið með bráðalækningum og lyflækningum + viðurke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Bráðalækningar, Fæðinga- og kvenlækningar, Skurðlækningar, Barnalækningar að vinna með breskum R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Bæklunarlækningar að endurskoða byggt á sænskum stöðlum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BUGL munu nota Evrópustað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Meinafræði að vinna betri marklýsing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Augnlækningar, HNE, Myndgreining = lengra í land……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c00000"/>
                </a:solidFill>
                <a:latin typeface="Calibri"/>
              </a:rPr>
              <a:t>Verið að yfirfara kandidatsárið – þarf “kúltúrbreytingu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4176720" cy="45324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6084720" y="1773360"/>
            <a:ext cx="22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800" spc="-1" strike="noStrike">
                <a:solidFill>
                  <a:srgbClr val="002060"/>
                </a:solidFill>
                <a:latin typeface="Arial"/>
              </a:rPr>
              <a:t>Nýburinn í íslenskri heilbrigðis-þjónus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2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000000"/>
                </a:solidFill>
                <a:latin typeface="Calibri"/>
              </a:rPr>
              <a:t>Reglugerð 467/2015</a:t>
            </a:r>
            <a:br>
              <a:rPr sz="2800"/>
            </a:br>
            <a:r>
              <a:rPr b="1" lang="is-IS" sz="2000" spc="-1" strike="noStrike">
                <a:solidFill>
                  <a:srgbClr val="000000"/>
                </a:solidFill>
                <a:latin typeface="Calibri"/>
              </a:rPr>
              <a:t>um</a:t>
            </a:r>
            <a:r>
              <a:rPr b="1" lang="is-I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s-IS" sz="2000" spc="-1" strike="noStrike">
                <a:solidFill>
                  <a:srgbClr val="000000"/>
                </a:solidFill>
                <a:latin typeface="Calibri"/>
              </a:rPr>
              <a:t>menntun, réttindi og skyldur lækna og skilyrði til að hljóta almennt lækningaleyfi og sérfræðileyf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984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15.grein: Um Mats- og hæfisnefndina (M &amp; h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400" spc="-1" strike="noStrike">
                <a:solidFill>
                  <a:srgbClr val="990000"/>
                </a:solidFill>
                <a:latin typeface="Calibri"/>
              </a:rPr>
              <a:t>Viðurkennir heilbrigðisstofnanir/deildir/aðra aðstöðu þar sem boðið er nám að fullu eða að hluta eftir grunnnám í háskóla</a:t>
            </a: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starfsnám</a:t>
            </a: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 fram að lækningaleyfi </a:t>
            </a:r>
            <a:r>
              <a:rPr b="1" lang="is-IS" sz="2000" spc="-1" strike="noStrike">
                <a:solidFill>
                  <a:srgbClr val="000000"/>
                </a:solidFill>
                <a:latin typeface="Calibri"/>
              </a:rPr>
              <a:t>(“kandidatsár” = 1 á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sérnám til sérfræðiréttinda í læknisfræð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400" spc="-1" strike="noStrike">
                <a:solidFill>
                  <a:srgbClr val="1f497d"/>
                </a:solidFill>
                <a:latin typeface="Calibri"/>
              </a:rPr>
              <a:t>Metur/samþykkir </a:t>
            </a:r>
            <a:r>
              <a:rPr b="1" i="1" lang="is-IS" sz="2400" spc="-1" strike="noStrike">
                <a:solidFill>
                  <a:srgbClr val="1f497d"/>
                </a:solidFill>
                <a:latin typeface="Calibri"/>
              </a:rPr>
              <a:t>marklýsingar</a:t>
            </a:r>
            <a:r>
              <a:rPr b="1" i="1" lang="is-IS" sz="2400" spc="-1" strike="noStrike">
                <a:solidFill>
                  <a:srgbClr val="1f497d"/>
                </a:solidFill>
                <a:latin typeface="Calibri"/>
              </a:rPr>
              <a:t> fyrir námi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A. Starfsnámið (ein sameiginleg á íslensku*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B. Sérnámsbrautir (á íslensku eða erlendu má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s-IS" sz="2400" spc="-1" strike="noStrike">
                <a:solidFill>
                  <a:srgbClr val="006600"/>
                </a:solidFill>
                <a:latin typeface="Calibri"/>
              </a:rPr>
              <a:t>M &amp; h er “</a:t>
            </a:r>
            <a:r>
              <a:rPr b="1" i="1" lang="is-IS" sz="2400" spc="-1" strike="noStrike">
                <a:solidFill>
                  <a:srgbClr val="006600"/>
                </a:solidFill>
                <a:latin typeface="Calibri"/>
              </a:rPr>
              <a:t>framkvæmdaraðili“ fyrir 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1835280" y="62373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andspitali.is/visindi-og-menntun/menntun-heilbrigdisstetta/laeknakandidat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000" spc="-1" strike="noStrike">
                <a:solidFill>
                  <a:srgbClr val="000000"/>
                </a:solidFill>
                <a:latin typeface="Calibri"/>
              </a:rPr>
              <a:t>Íslenska reglugerðin var löngu úrelt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000" y="1125000"/>
            <a:ext cx="8218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Ný reglugerð birt í apríl 2015 (nr. 467/20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400" spc="-1" strike="noStrike">
                <a:solidFill>
                  <a:srgbClr val="990000"/>
                </a:solidFill>
                <a:latin typeface="Calibri"/>
              </a:rPr>
              <a:t>Tekur til lækningaleyfis, viðurkenndra sérgreina lækninga</a:t>
            </a:r>
            <a:r>
              <a:rPr b="1" i="1" lang="is-IS" sz="2400" spc="-1" strike="noStrike">
                <a:solidFill>
                  <a:srgbClr val="c00000"/>
                </a:solidFill>
                <a:latin typeface="Calibri"/>
              </a:rPr>
              <a:t>, afmarkar sérfræðinámið, ábyrgð á sérfræðináminu</a:t>
            </a:r>
            <a:r>
              <a:rPr b="1" i="1" lang="is-IS" sz="2400" spc="-1" strike="noStrike">
                <a:solidFill>
                  <a:srgbClr val="ff0000"/>
                </a:solidFill>
                <a:latin typeface="Calibri"/>
              </a:rPr>
              <a:t>, eftirlit +  viðurkenning sérnáms, staðfesting sérfræðirétti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400" spc="-1" strike="noStrike">
                <a:solidFill>
                  <a:srgbClr val="000000"/>
                </a:solidFill>
                <a:latin typeface="Calibri"/>
              </a:rPr>
              <a:t>Sérnám verður að byggjast 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Marklýsingu </a:t>
            </a: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(e. educational guidelines, curriculum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með skýrum faglegum markmiðum, inntökuskilyrðum, áföngum, kerfi til að meta árangur og hæfi</a:t>
            </a:r>
            <a:r>
              <a:rPr b="1" lang="is-I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skýrri stjórnun og ábyrg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1f497d"/>
                </a:solidFill>
                <a:latin typeface="Calibri"/>
              </a:rPr>
              <a:t>Mati á kennslu, námi, framgan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Viðurkenningu námsstað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4f6228"/>
                </a:solidFill>
                <a:latin typeface="Calibri"/>
              </a:rPr>
              <a:t>Sambærilegt við nágrannalö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400" spc="-1" strike="noStrike">
                <a:solidFill>
                  <a:srgbClr val="c00000"/>
                </a:solidFill>
                <a:latin typeface="Calibri"/>
              </a:rPr>
              <a:t>Vanalegir íslenskir ágallar í reglugerð: Ábyrgð ekki nægilega ljós, engir peningar til að sjá um framkvæmdina.....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ounded Rectangle 4"/>
          <p:cNvSpPr/>
          <p:nvPr/>
        </p:nvSpPr>
        <p:spPr>
          <a:xfrm>
            <a:off x="611280" y="260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tjórnunarhæt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3203640" y="260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Framkvæ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5867280" y="260280"/>
            <a:ext cx="2521080" cy="5763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Leiðbeining/ráðgjö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684360" y="1773360"/>
            <a:ext cx="2303280" cy="22320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ffff"/>
                </a:solidFill>
                <a:uFillTx/>
                <a:latin typeface="Calibri"/>
              </a:rPr>
              <a:t>Landlæk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100" spc="-1" strike="noStrike">
                <a:solidFill>
                  <a:srgbClr val="ffffff"/>
                </a:solidFill>
                <a:latin typeface="Calibri"/>
              </a:rPr>
              <a:t>Lýðheil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100" spc="-1" strike="noStrike">
                <a:solidFill>
                  <a:srgbClr val="ffffff"/>
                </a:solidFill>
                <a:latin typeface="Calibri"/>
              </a:rPr>
              <a:t>Tryggir góð vinnubrögð/stað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100" spc="-1" strike="noStrike">
                <a:solidFill>
                  <a:srgbClr val="ffffff"/>
                </a:solidFill>
                <a:latin typeface="Calibri"/>
              </a:rPr>
              <a:t>Fagmenns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Góð læknisfræð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Leiðbeiningar um framhaldsnám heilbrigðisstét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Staðlar fyrir sérná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Listi yfir sérnámsstað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Birting marklýsing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Útgáfa réttin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Áfrýjunarlei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3203640" y="1773360"/>
            <a:ext cx="2448000" cy="1224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ffff"/>
                </a:solidFill>
                <a:uFillTx/>
                <a:latin typeface="Calibri"/>
              </a:rPr>
              <a:t>Mats- og hæfisnef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Metur umsóknir um námsstaði og viðurkennir þ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Metur og samþykkir marklýsing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5940360" y="1773360"/>
            <a:ext cx="2448000" cy="122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ffff"/>
                </a:solidFill>
                <a:uFillTx/>
                <a:latin typeface="Calibri"/>
              </a:rPr>
              <a:t>Marklýsingar fyrir námi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Sérgreinafélög, 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Heilbrigðisstofnanir með n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Læknadeild H.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10"/>
          <p:cNvSpPr/>
          <p:nvPr/>
        </p:nvSpPr>
        <p:spPr>
          <a:xfrm>
            <a:off x="3203640" y="321300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ffff"/>
                </a:solidFill>
                <a:uFillTx/>
                <a:latin typeface="Calibri"/>
              </a:rPr>
              <a:t>Framkvæmdastjórar læknin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Landspítali háskólasjúkrahú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Sjúkrahúsið á Akurey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Heilbrigðisstofnanir (Hg)(n=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5940360" y="3068640"/>
            <a:ext cx="2448000" cy="122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ffff"/>
                </a:solidFill>
                <a:uFillTx/>
                <a:latin typeface="Calibri"/>
              </a:rPr>
              <a:t>Sérgreinasamtök/stofnanir í Bretlandi, á Norðurlöndum, Evrópskir (UEMS) Stað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CMT Curricul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ePortfol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UK examin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Accredit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12"/>
          <p:cNvSpPr/>
          <p:nvPr/>
        </p:nvSpPr>
        <p:spPr>
          <a:xfrm>
            <a:off x="3203640" y="436572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ffff"/>
                </a:solidFill>
                <a:uFillTx/>
                <a:latin typeface="Calibri"/>
              </a:rPr>
              <a:t>Kennslustjór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Aðstoðarkennslustjór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Skrifstofuaðstaða (á staðnum, menntadeild LSH, Þróunarsto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13"/>
          <p:cNvSpPr/>
          <p:nvPr/>
        </p:nvSpPr>
        <p:spPr>
          <a:xfrm>
            <a:off x="684360" y="4365720"/>
            <a:ext cx="2303280" cy="1008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ffff"/>
                </a:solidFill>
                <a:uFillTx/>
                <a:latin typeface="Calibri"/>
              </a:rPr>
              <a:t>Læknadeild H.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Akademískt nám (rannsóknir, námskeið á Ísl. og erl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P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14"/>
          <p:cNvSpPr/>
          <p:nvPr/>
        </p:nvSpPr>
        <p:spPr>
          <a:xfrm>
            <a:off x="5940360" y="4437000"/>
            <a:ext cx="2448000" cy="2232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ffff"/>
                </a:solidFill>
                <a:uFillTx/>
                <a:latin typeface="Calibri"/>
              </a:rPr>
              <a:t>Ráðgjafa- eða úttektarnefndir fyrir sérn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Stjórnun sérnámsgreina (fræðasvið HÍ, sérgreinafélög, yfirmenn eininga/deilda + fulltrúar sérfræði- og sérnámslækn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Kennslustjórn heimilislækninga (Þróunarstof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Landspitali -Framhaldsmenntunarráð lækning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15"/>
          <p:cNvSpPr/>
          <p:nvPr/>
        </p:nvSpPr>
        <p:spPr>
          <a:xfrm>
            <a:off x="971640" y="5732640"/>
            <a:ext cx="439236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Sérnám (kjarni eða ful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3"/>
          <p:cNvSpPr/>
          <p:nvPr/>
        </p:nvSpPr>
        <p:spPr>
          <a:xfrm>
            <a:off x="611280" y="1052640"/>
            <a:ext cx="7848360" cy="50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Velferðarráðuney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467/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47"/>
          <p:cNvCxnSpPr>
            <a:stCxn id="60" idx="3"/>
            <a:endCxn id="61" idx="1"/>
          </p:cNvCxnSpPr>
          <p:nvPr/>
        </p:nvCxnSpPr>
        <p:spPr>
          <a:xfrm flipV="1">
            <a:off x="2987640" y="2383560"/>
            <a:ext cx="216720" cy="505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1" name="Straight Arrow Connector 53"/>
          <p:cNvCxnSpPr>
            <a:stCxn id="62" idx="1"/>
            <a:endCxn id="61" idx="3"/>
          </p:cNvCxnSpPr>
          <p:nvPr/>
        </p:nvCxnSpPr>
        <p:spPr>
          <a:xfrm flipH="1">
            <a:off x="5651280" y="2383920"/>
            <a:ext cx="289440" cy="10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2" name="Straight Arrow Connector 66"/>
          <p:cNvCxnSpPr>
            <a:stCxn id="64" idx="1"/>
            <a:endCxn id="65" idx="3"/>
          </p:cNvCxnSpPr>
          <p:nvPr/>
        </p:nvCxnSpPr>
        <p:spPr>
          <a:xfrm flipH="1">
            <a:off x="5651280" y="3681000"/>
            <a:ext cx="289440" cy="118980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3" name="Straight Arrow Connector 69"/>
          <p:cNvCxnSpPr>
            <a:stCxn id="67" idx="1"/>
            <a:endCxn id="65" idx="3"/>
          </p:cNvCxnSpPr>
          <p:nvPr/>
        </p:nvCxnSpPr>
        <p:spPr>
          <a:xfrm flipH="1" flipV="1">
            <a:off x="5651280" y="4870440"/>
            <a:ext cx="289440" cy="6829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4" name="Straight Arrow Connector 73"/>
          <p:cNvCxnSpPr>
            <a:stCxn id="61" idx="2"/>
            <a:endCxn id="63" idx="0"/>
          </p:cNvCxnSpPr>
          <p:nvPr/>
        </p:nvCxnSpPr>
        <p:spPr>
          <a:xfrm>
            <a:off x="4427280" y="2997000"/>
            <a:ext cx="1080" cy="21636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75" name="Straight Arrow Connector 74"/>
          <p:cNvCxnSpPr>
            <a:stCxn id="63" idx="2"/>
            <a:endCxn id="65" idx="0"/>
          </p:cNvCxnSpPr>
          <p:nvPr/>
        </p:nvCxnSpPr>
        <p:spPr>
          <a:xfrm>
            <a:off x="4427280" y="4221000"/>
            <a:ext cx="1080" cy="1454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76" name="Straight Arrow Connector 78"/>
          <p:cNvCxnSpPr>
            <a:stCxn id="66" idx="3"/>
            <a:endCxn id="65" idx="1"/>
          </p:cNvCxnSpPr>
          <p:nvPr/>
        </p:nvCxnSpPr>
        <p:spPr>
          <a:xfrm flipV="1">
            <a:off x="2987640" y="4868640"/>
            <a:ext cx="216720" cy="21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7" name="Straight Arrow Connector 22"/>
          <p:cNvCxnSpPr/>
          <p:nvPr/>
        </p:nvCxnSpPr>
        <p:spPr>
          <a:xfrm>
            <a:off x="2195280" y="5373360"/>
            <a:ext cx="216360" cy="3596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78" name="Straight Arrow Connector 28"/>
          <p:cNvCxnSpPr/>
          <p:nvPr/>
        </p:nvCxnSpPr>
        <p:spPr>
          <a:xfrm flipH="1">
            <a:off x="3850560" y="5373360"/>
            <a:ext cx="361080" cy="3596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79" name="Straight Arrow Connector 31"/>
          <p:cNvCxnSpPr/>
          <p:nvPr/>
        </p:nvCxnSpPr>
        <p:spPr>
          <a:xfrm flipH="1">
            <a:off x="5363280" y="5732280"/>
            <a:ext cx="577080" cy="1447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000000"/>
                </a:solidFill>
                <a:latin typeface="Calibri"/>
              </a:rPr>
              <a:t>M &amp; 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560" y="1412640"/>
            <a:ext cx="87138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Vinnunefnd VEL-heilbrigðisráðuneytis til að meta og viðurkenna marklýsingar og námsstað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Þrír nefndarmenn tilnefndir af Læknadeild H.Í., Læknafélagi Íslands, Landlæknisembætti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Nefndin staðsett á LSH + ritari frá L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2060"/>
                </a:solidFill>
                <a:latin typeface="Calibri"/>
              </a:rPr>
              <a:t>12-14 sérgreinar tilbúnar í 2-3 kjarnaár sérnáms sem væri svo lokið erlendis eða með tíma erlendis + námslokum á Ísland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1f497d"/>
                </a:solidFill>
                <a:latin typeface="Calibri"/>
              </a:rPr>
              <a:t>2 sérgreinar veita fullt sérnám (geðlækningar, heimilislækning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Flestar greinar telja a.m.k. 1-2 ár erlendis nauðsynle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000000"/>
                </a:solidFill>
                <a:latin typeface="Calibri"/>
              </a:rPr>
              <a:t>M &amp; 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7640" y="1125000"/>
            <a:ext cx="878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0000"/>
                </a:solidFill>
                <a:latin typeface="Calibri"/>
              </a:rPr>
              <a:t>Tryggja að marklýsingar strandist alþjóðlegan samanbur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þarf samþykk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Sérgreinafélag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Framkvæmdastjóra viðkomandi heilbrigðisstofa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Forstöðumanna fræðasviða í læknadeild H.Í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Landlæknisembættisi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0000"/>
                </a:solidFill>
                <a:latin typeface="Calibri"/>
              </a:rPr>
              <a:t>Nefndin sendir VEL viðurkenndar og tilbúnar marklýsingar + lista um viðurkennda námsstað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2060"/>
                </a:solidFill>
                <a:latin typeface="Calibri"/>
              </a:rPr>
              <a:t>Landlæknir birtir marklýsingar og viðurkennda námsstað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2060"/>
                </a:solidFill>
                <a:latin typeface="Calibri"/>
              </a:rPr>
              <a:t>Viðurkenndir námsstaðir </a:t>
            </a:r>
            <a:r>
              <a:rPr b="1" lang="is-IS" sz="2000" spc="-1" strike="noStrike" u="sng">
                <a:solidFill>
                  <a:srgbClr val="002060"/>
                </a:solidFill>
                <a:uFillTx/>
                <a:latin typeface="Calibri"/>
              </a:rPr>
              <a:t>verða</a:t>
            </a:r>
            <a:r>
              <a:rPr b="1" lang="is-IS" sz="2000" spc="-1" strike="noStrike">
                <a:solidFill>
                  <a:srgbClr val="002060"/>
                </a:solidFill>
                <a:latin typeface="Calibri"/>
              </a:rPr>
              <a:t> að tilkynna breytingar sem hafa áhrif á námi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2060"/>
                </a:solidFill>
                <a:latin typeface="Calibri"/>
              </a:rPr>
              <a:t>Endurmat a.m.k. á 4 ára fre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2060"/>
                </a:solidFill>
                <a:latin typeface="Calibri"/>
              </a:rPr>
              <a:t>Hægt að missa viðurkenning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0000"/>
                </a:solidFill>
                <a:latin typeface="Calibri"/>
              </a:rPr>
              <a:t>Hvað þarf til að fá sérfræðiviðurkenningu eftir apríl 2015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c00000"/>
                </a:solidFill>
                <a:latin typeface="Calibri"/>
              </a:rPr>
              <a:t>Nám í aðal sérgrein  = viðurkennd af UEMS + UE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c00000"/>
                </a:solidFill>
                <a:latin typeface="Calibri"/>
              </a:rPr>
              <a:t>Undirsérgreinar tiltekn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800" spc="-1" strike="noStrike">
                <a:solidFill>
                  <a:srgbClr val="c00000"/>
                </a:solidFill>
                <a:latin typeface="Calibri"/>
              </a:rPr>
              <a:t>Til að verða sérfræðilæknir þarf: viðurkennt nám í læknisfræði, lækningaleyfi á Íslandi, viðurkennt sérnámsferli með stöðlum fyrir þekkingaröflun + mati á hæfi, hæfni og fagmennsku </a:t>
            </a:r>
            <a:r>
              <a:rPr b="1" lang="is-IS" sz="1600" spc="-1" strike="noStrike">
                <a:solidFill>
                  <a:srgbClr val="c00000"/>
                </a:solidFill>
                <a:latin typeface="Calibri"/>
              </a:rPr>
              <a:t>(e. pertinent knowledge + clinical and practical competence assessmen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800" spc="-1" strike="noStrike">
                <a:solidFill>
                  <a:srgbClr val="c00000"/>
                </a:solidFill>
                <a:latin typeface="Calibri"/>
              </a:rPr>
              <a:t>Sérfræðiviðurkenning í því landi þar sem náminu lauk eða þar sem meirihluti þess fór fra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800" spc="-1" strike="noStrike">
                <a:solidFill>
                  <a:srgbClr val="c00000"/>
                </a:solidFill>
                <a:latin typeface="Calibri"/>
              </a:rPr>
              <a:t>Lágmarkstími aðalgreinar er 5 ár (60 mán.) + 2 sveigjanleg ár fyrir undirsérgrein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800" spc="-1" strike="noStrike">
                <a:solidFill>
                  <a:srgbClr val="002060"/>
                </a:solidFill>
                <a:latin typeface="Calibri"/>
              </a:rPr>
              <a:t>Sérfræðinám í  ES/EES/Sviss eða öðrum löndum með vel upp sett sérnám má viðurken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1600" spc="-1" strike="noStrike">
                <a:solidFill>
                  <a:srgbClr val="4f6228"/>
                </a:solidFill>
                <a:latin typeface="Calibri"/>
              </a:rPr>
              <a:t>Viðbótarsérnám (90 ECTS* ein. + 6 mán. nám eða 2ja ára skipulagt klínískt námsferli)</a:t>
            </a:r>
            <a:r>
              <a:rPr b="1" lang="is-IS" sz="1800" spc="-1" strike="noStrike">
                <a:solidFill>
                  <a:srgbClr val="4f6228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34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4f6228"/>
                </a:solidFill>
                <a:latin typeface="Calibri"/>
              </a:rPr>
              <a:t>Heilbrigðisstjórnu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34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4f6228"/>
                </a:solidFill>
                <a:latin typeface="Calibri"/>
              </a:rPr>
              <a:t>Lýðheilsufræð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34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4f6228"/>
                </a:solidFill>
                <a:latin typeface="Calibri"/>
              </a:rPr>
              <a:t>Líknarlækninga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34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4f6228"/>
                </a:solidFill>
                <a:latin typeface="Calibri"/>
              </a:rPr>
              <a:t>Öldrunarlækning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34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4f6228"/>
                </a:solidFill>
                <a:latin typeface="Calibri"/>
              </a:rPr>
              <a:t>Verkjalækning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34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4f6228"/>
                </a:solidFill>
                <a:latin typeface="Calibri"/>
              </a:rPr>
              <a:t>Fíknlækningar 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uropean Credit Transfer System</a:t>
            </a:r>
            <a:r>
              <a:rPr b="0" lang="nn-NO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3600" spc="-1" strike="noStrike">
                <a:solidFill>
                  <a:srgbClr val="000000"/>
                </a:solidFill>
                <a:latin typeface="Calibri"/>
              </a:rPr>
              <a:t>Sérnám...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4920" y="1557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2060"/>
                </a:solidFill>
                <a:latin typeface="Calibri"/>
              </a:rPr>
              <a:t>Fræðileg og klínísk/praktísk menntun á háskólastigi </a:t>
            </a:r>
            <a:r>
              <a:rPr b="1" lang="is-IS" sz="1800" spc="-1" strike="noStrike">
                <a:solidFill>
                  <a:srgbClr val="002060"/>
                </a:solidFill>
                <a:latin typeface="Calibri"/>
              </a:rPr>
              <a:t>(Ísl. eða erl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b050"/>
                </a:solidFill>
                <a:latin typeface="Calibri"/>
              </a:rPr>
              <a:t>Kröfur = ES, einkum Norðurlönd, Bret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b050"/>
                </a:solidFill>
                <a:latin typeface="Calibri"/>
              </a:rPr>
              <a:t>Viðurkenning M &amp; h nauðsynleg fyrir íslenskar stofnan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b050"/>
                </a:solidFill>
                <a:latin typeface="Calibri"/>
              </a:rPr>
              <a:t>Marklýsingar grundvallaratriði</a:t>
            </a:r>
            <a:r>
              <a:rPr b="1" lang="is-IS" sz="2000" spc="-1" strike="noStrike">
                <a:solidFill>
                  <a:srgbClr val="00b050"/>
                </a:solidFill>
                <a:latin typeface="Calibri"/>
              </a:rPr>
              <a:t>, </a:t>
            </a:r>
            <a:r>
              <a:rPr b="1" i="1" lang="is-IS" sz="2000" spc="-1" strike="noStrike">
                <a:solidFill>
                  <a:srgbClr val="000000"/>
                </a:solidFill>
                <a:latin typeface="Calibri"/>
              </a:rPr>
              <a:t>þ.m.t. inntaka, innihald, námsmarkmið, form, lengd  og innhald námsáfanga, gæðaviðmið, umsjón fræðilegrar og klínískrar framvindu, mat á hæfi og hæfni</a:t>
            </a:r>
            <a:r>
              <a:rPr b="1" i="1" lang="is-I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c00000"/>
                </a:solidFill>
                <a:latin typeface="Calibri"/>
              </a:rPr>
              <a:t>Ábyrgðin liggur hjá framkvæmdastjórum lækninga</a:t>
            </a:r>
            <a:r>
              <a:rPr b="1" i="1" lang="is-IS" sz="2000" spc="-1" strike="noStrike">
                <a:solidFill>
                  <a:srgbClr val="000000"/>
                </a:solidFill>
                <a:latin typeface="Calibri"/>
              </a:rPr>
              <a:t>, + kennslustjórum stofnana í daglegum er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4f6228"/>
                </a:solidFill>
                <a:latin typeface="Calibri"/>
              </a:rPr>
              <a:t>Námslæknir og námstaður: skriflegur samningur, 100% staða, ákvæði um leyfi, fjarvistir, rannsókna- eða gæðavin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sitting.jpg"/>
          <p:cNvPicPr/>
          <p:nvPr/>
        </p:nvPicPr>
        <p:blipFill>
          <a:blip r:embed="rId1"/>
          <a:stretch/>
        </p:blipFill>
        <p:spPr>
          <a:xfrm>
            <a:off x="684360" y="790560"/>
            <a:ext cx="7851600" cy="52308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2916360" y="6093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s-IS" sz="1800" spc="-1" strike="noStrike">
                <a:solidFill>
                  <a:srgbClr val="000000"/>
                </a:solidFill>
                <a:latin typeface="Arial"/>
              </a:rPr>
              <a:t>Við í M &amp; h bíðum ekki bara…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4T16:41:47Z</dcterms:created>
  <dc:creator>tomasa</dc:creator>
  <dc:description/>
  <dc:language>en-US</dc:language>
  <cp:lastModifiedBy>reynirg</cp:lastModifiedBy>
  <dcterms:modified xsi:type="dcterms:W3CDTF">2017-03-27T14:30:36Z</dcterms:modified>
  <cp:revision>101</cp:revision>
  <dc:subject/>
  <dc:title>Slide 1</dc:title>
</cp:coreProperties>
</file>