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3542-EEBA-41E3-9EAF-C9415CF73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4A07-CBC7-4D68-8768-DF6A581D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E7FA-FE3B-48FC-B548-C4AAA3338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59D4-BD97-4B09-85E6-9CEDD153F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4DF0-ECAE-42A4-8A12-8CB21F1BFA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7958-17E2-46C8-AF3F-463EFAA96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818D-F319-46C3-950D-24CCA449B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075B-76A3-4B89-A08A-DF4EBC674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5710-8152-4A31-A20C-9CCBBB772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938D-D79C-494A-A4A3-BAA62FC78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60B5-1863-47A3-8DE1-744E6A52A8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49AB-86F9-4027-AEBC-BB07C37AD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s-I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2AF03-2905-477D-B791-E6049D806681}" type="slidenum">
              <a:rPr b="0" lang="is-I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5788080" cy="68547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7380360" y="6089760"/>
            <a:ext cx="13809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272880"/>
            <a:ext cx="82296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lbrigðisstofnun Austurl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600200"/>
            <a:ext cx="82296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eimahjúkru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na Hrönn Gunnarsdótt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kvæmdastjóri hjúkru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kipulag heimahjúkru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gun-, kvöld- og helgarþjónu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ilsstaðir,Fjarðabyggð (Fáskrúðsfjörður, Reyðarfjörður, Eskifjörður), Neskaupstað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gþjónu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yðisfjörður, Djúpivogur, Breiðdalsvík, Stöðvarfjörður, Borgarfjörð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ningur við sveitafél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pnafjörð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mvinna heimahjúkruna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g heimaþjónus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57200" y="1844640"/>
            <a:ext cx="822816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tt samstar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shóps-tey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ji til góðra ver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ndranir í samstarfi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imahjúkrunar og heimaþjónustu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2205000"/>
            <a:ext cx="8228160" cy="39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jaldskyld þjónu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Þröngt skilgreint starfssvi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mark á þjónus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47640" y="1944720"/>
            <a:ext cx="7848720" cy="30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s-I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s-IS" sz="4800" spc="-1" strike="noStrike">
                <a:solidFill>
                  <a:srgbClr val="000000"/>
                </a:solidFill>
                <a:latin typeface="Arial"/>
              </a:rPr>
              <a:t>Takk fyrir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743280" y="503280"/>
            <a:ext cx="49878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3:52:36Z</dcterms:created>
  <dc:creator>steinunna</dc:creator>
  <dc:description/>
  <cp:keywords/>
  <dc:language>en-US</dc:language>
  <cp:lastModifiedBy>Nína Hrönn Gunnarsdóttir</cp:lastModifiedBy>
  <dcterms:modified xsi:type="dcterms:W3CDTF">2016-04-14T23:40:34Z</dcterms:modified>
  <cp:revision>12</cp:revision>
  <dc:subject/>
  <dc:title>Slide 1</dc:title>
</cp:coreProperties>
</file>