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3655-0FAB-4F3F-9288-6B51EB080899}" type="slidenum"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070-5499-4BD2-A5DC-586E0C8A2901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Í reglugerð með lögum um heilbrigðisþjónustu er kveðið á um hlutverk heilsugæslustöðva og kemur þar skýrt fram hvaða þjónustu er skylt að ve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ssi þjónusta er umfangsmikil og heyrir það til undantekninga að einn starfsmaður komi að hen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Auðvitað er bráðaþjónusta á landsbyggðinni í höndum lækna sem ganga vaktir einir, en þeir hafa sér til stuðnings sjúkraflutningamenn ef þörf er á aðstoð við alvarlegri atvi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Hinni daglegu þjónustu er sinnt af mismunandi aðilum, læknum, hjúkrunarfræðingum, ljósmæðrum, sjúkraliðum, sjúkraflutningamönnum og stundum sálfræðingum með aðstoð móttökuritara og læknarita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gar talað er um teymisvinnu er átt við að aðilar úr mismunandi fagstéttum komi að við að leysa vandamál skjólstæð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B505-36D5-43BC-942D-363562F792EB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6760" y="117936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EEAB-CB90-4E66-87E3-33D74DE4CF26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3482-96E5-48CE-A5A5-B6FC95C2A80B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Er það ekki þannig að sami læknir sinni öllum sykursjúkum eða öllum í lífstílsmóttöku heldur að sami hjúkrunarfræðingur og læknir fylgi sama skjólstæðin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annig eru teymi hvers skjólstæðings mismunandi samse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44C-B0F2-449D-B7C1-D3AE24DF3BC8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9639-E099-4D1C-A8AC-8DDC80ACC228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A571-497D-4D01-8E40-8AE114684508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B94-8AC2-4DF3-95F4-EF74CC1029F1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CAD-26A9-4856-B491-0531F320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FDA-A4A9-452A-B780-B1164B28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FA7-8F6E-4DB9-BC9D-8722DAC3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A08-7A10-4759-8BFD-6611790E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250-9FA6-4C48-B359-66A27042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7295-D97E-48E8-B0F7-BDC9F1D7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9901-D982-4464-972A-DADFA77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9FE-7A56-435B-8710-BE9FBB17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6659-A303-4F13-8173-4E1AA142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59A-017E-4FF0-8777-14266211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30B-CAB6-4B2D-B384-AB690A4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8B1-D27C-49F8-8740-99D27AAA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877F-9162-41ED-ADED-99B2F0F1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B01A-2C7A-4D33-A0DF-BDD0749A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546-2AA0-4CE6-B735-4FDDEDF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DFAE-532E-4250-9B98-89C22015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FBAA-218E-4808-BDDE-98DA4D0A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923-FA0B-43AF-92C6-256C620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E81-D90A-4AD6-900A-8947A0AD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79C-8430-4B0C-AF5D-30D5099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7161-328F-4AA3-A5EF-41833637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B2E-E547-4B33-B585-E8B847B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CD6D-8EEE-4AD1-A690-BD72883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0F6-EA37-468D-AE50-386C29B3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1752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DA88-EB5A-4E1E-9EA1-99C054DD18BD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762120" y="0"/>
            <a:ext cx="7451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182880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5" name="Picture 9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914400" y="0"/>
            <a:ext cx="745164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55AC-5334-452B-9843-1816A4244C20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1709640"/>
            <a:ext cx="617076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innan heilsugæslu á landsbyggðinni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71640" y="4581360"/>
            <a:ext cx="559440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010000"/>
                </a:solidFill>
                <a:latin typeface="Arial"/>
              </a:rPr>
              <a:t>Vorfundur Landssambands heilbrigðisstofnanna 14. apríl 2016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Linda Kristjánsdóttir sviðstjóri lækninga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Rósa Marinósdóttir sviðsstjóri hjúkrunar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eilsugæsla er ekki „læknamiðstöð“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2244240"/>
            <a:ext cx="5959440" cy="32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Heilsugæslustöðvar sinna heilsugæslu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Með heilsugæslu er m.a. átt við almennar lækningar, hjúkrun, heilsuvernd, forvarnir og bráða- og slysamóttöku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Skylduhlutverkin eru t.d. ung- og smábarnavernd, skólaheilsugæsla,  mæðravernd og heimahjúkrun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Getur alls ekki gengið að hugsa um fagstéttirnar sem sjálfstæðar óháðar öðrum, heldur þarf að samnýta þekkingu og krafta til að leysa verkefnin sem best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að er teymisvinna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Fyrir mörgum er það teymisvinna þegar margir aðilar koma að sama vandamáli á sama tíma á sama sta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Í okkar huga er teymisvinna þegar mismunandi fagaðilar vinna að sama marki að leysa vanda skjólstæðingsins, stundum á sama stað á sama tíma og stundum ekki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0" y="112536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ers erum við bættari með teymisvinnu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tryggjum betra utanumhald þar sem fleiri en einn aðili koma að eftirliti og meðferð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nýtum mismunandi þekkingu við lausn vandans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kjólstæðingur hefur fleiri möguleika á úrlausn síns vanda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tyrkur bæði fyrir fagfólk og skjólstæðing</a:t>
            </a:r>
            <a:r>
              <a:rPr b="0" lang="is-IS" sz="2400" spc="-1" strike="noStrike">
                <a:solidFill>
                  <a:srgbClr val="77777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Teymi á heilsugæslustöðvum HV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Heimahjúkrun : Teymi sjúkraliða,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Ungbarnanvernd og skólaheilsugæsla: Teymi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ðravernd: Teymi ljósmóður og læknis með aðstoð næringarfræðings og væntanlega sálfræðings á næstunni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 á heilsugæslustöðvum HVE frh.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Sykursýkismóttaka: Teymi hjúkrunarfræðings og læknis, með aðstoð næringarfræðings, hreyfistjóra og væntalega sálfræðings á næstunni, aðgangur að sérfræðingsþjónustu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Lífstílsmóttaka: Hjúkrunarmóttaka, vinnur í teymi með lækni, næringarfræðingi, hreyfistjóra og væntanlega sálfræðingi á næstunni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Bráða- og slysamóttaka á dagvinnutíma: Teymi hjúkrunarfræðings og læknis, með aðstoð sjúkraflutninga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112500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þar sem verktakar sinna læknisþjónustu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 og skjólstæðingur velja lækni í teymið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Sömu læknarnir koma með ákveðnu millibili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inn stýrir teyminu á þessum heilsugæslustöðvum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Lokaorð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eljum að teymisvinna skili almennt betri árangri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lum með að hún sé nýtt á sem flestum stöðum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ikilvægt að þeir sem sinni afmörkuðum verkefnum haldi sér vel við faglega og geti miðlað sinni þekkingu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raust þarf að ríkja bæði milli fagfólks og milli sjúklings og fagfólk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8:52Z</dcterms:created>
  <dc:creator>Rósa Marinósdóttir</dc:creator>
  <dc:description/>
  <dc:language>en-US</dc:language>
  <cp:lastModifiedBy>Linda Kristjánsdóttir</cp:lastModifiedBy>
  <cp:lastPrinted>2016-04-13T14:06:14Z</cp:lastPrinted>
  <dcterms:modified xsi:type="dcterms:W3CDTF">2016-04-13T21:08:17Z</dcterms:modified>
  <cp:revision>8</cp:revision>
  <dc:subject/>
  <dc:title>PowerPoint Presentation</dc:title>
</cp:coreProperties>
</file>