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s-I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83DB-19DF-490C-B326-F04D23614B5F}" type="slidenum">
              <a:rPr b="0" lang="is-I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6AEA-C9BF-41A2-9F59-15AEDB1E7513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Í reglugerð með lögum um heilbrigðisþjónustu er kveðið á um hlutverk heilsugæslustöðva og kemur þar skýrt fram hvaða þjónustu er skylt að vei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Þessi þjónusta er umfangsmikil og heyrir það til undantekninga að einn starfsmaður komi að henn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Auðvitað er bráðaþjónusta á landsbyggðinni í höndum lækna sem ganga vaktir einir, en þeir hafa sér til stuðnings sjúkraflutningamenn ef þörf er á aðstoð við alvarlegri atvi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Hinni daglegu þjónustu er sinnt af mismunandi aðilum, læknum, hjúkrunarfræðingum, ljósmæðrum, sjúkraliðum, sjúkraflutningamönnum og stundum sálfræðingum með aðstoð móttökuritara og læknarita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Þegar talað er um teymisvinnu er átt við að aðilar úr mismunandi fagstéttum komi að við að leysa vandamál skjólstæð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19CF-9F5A-4AD7-9D0B-D23BEED2A046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66760" y="117936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3E13-5F60-4AD8-8681-BEABC066F4E7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F98C-2975-4FAC-86AF-7AC4030A81AC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Er það ekki þannig að sami læknir sinni öllum sykursjúkum eða öllum í lífstílsmóttöku heldur að sami hjúkrunarfræðingur og læknir fylgi sama skjólstæðin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200" spc="-1" strike="noStrike">
                <a:solidFill>
                  <a:srgbClr val="000000"/>
                </a:solidFill>
                <a:latin typeface="Calibri"/>
              </a:rPr>
              <a:t>Þannig eru teymi hvers skjólstæðings mismunandi samse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F33C-2087-40CF-9C8C-A424CFAEBB8C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2B0E-9015-4215-903D-2813ED98B40F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6323-8464-4C29-AD0E-EF14998E466D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s-I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B9F3-E7F6-489A-92C5-8C3EB2E29370}" type="slidenum">
              <a:rPr b="0" lang="is-IS" sz="1200" spc="-1" strike="noStrike">
                <a:solidFill>
                  <a:srgbClr val="7777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FE6-107E-4F4C-9221-CB7A7D1C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276-5D2B-4F5A-9FA8-22675D7E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939-4608-4DB1-9C0E-D3EDCDDF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5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6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1424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75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6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F22-4BBD-4970-9007-2CAF793A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844E-73F5-4E73-BD13-02379AF1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9DB1-A722-4EA2-AF72-67753CB6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C678-DEDE-4D46-A07A-AAD31240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834A-F06B-4404-B3B2-EFBFEDF7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7CF1-B123-4938-9BFE-77772C44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90560" y="990720"/>
            <a:ext cx="6095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FE79-2FB8-4E13-83E9-C1A9A04B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B1EE-4888-4AD9-8715-EA298124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E64-2769-4DB6-ACC1-A4ED1BE4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54E4-4532-40CB-957D-040E02FA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1EEA-D337-423B-B4EE-88E76CE9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8547-F488-4252-B802-57FBACF1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B5BE-DB1C-4C02-9807-36BBB46A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5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36600" y="205740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1424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75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36600" y="420696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7676-2E68-47DF-9C41-532B27E1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0BD-26C8-452E-9E46-031C4DCA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54C-C264-4CD7-8CBF-17B547E0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26F-99FA-405B-96CA-70DA7A04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90560" y="990720"/>
            <a:ext cx="6095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D03-959B-4791-8CD9-F627DF1F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AF1-C443-4E64-B228-0352B439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37960" y="420696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424-7D7D-4554-80C6-6668A8E6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1424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37960" y="205740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14240" y="420696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79D-911F-4842-B911-2AEE4042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1752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523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2774-5145-4C61-8100-DF1D18C3ACAF}" type="slidenum">
              <a:rPr b="0" lang="en-GB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:\ROSA\Heilbrstofnun Vesturlands\Logo HVE\HVE-Allir-footer-copy.jpg"/>
          <p:cNvPicPr/>
          <p:nvPr/>
        </p:nvPicPr>
        <p:blipFill>
          <a:blip r:embed="rId2"/>
          <a:stretch/>
        </p:blipFill>
        <p:spPr>
          <a:xfrm>
            <a:off x="762120" y="0"/>
            <a:ext cx="7451640" cy="93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4" name="Arc 3"/>
          <p:cNvSpPr/>
          <p:nvPr/>
        </p:nvSpPr>
        <p:spPr>
          <a:xfrm>
            <a:off x="0" y="843120"/>
            <a:ext cx="182880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pic>
        <p:nvPicPr>
          <p:cNvPr id="45" name="Picture 9" descr="N:\ROSA\Heilbrstofnun Vesturlands\Logo HVE\HVE-Allir-footer-copy.jpg"/>
          <p:cNvPicPr/>
          <p:nvPr/>
        </p:nvPicPr>
        <p:blipFill>
          <a:blip r:embed="rId2"/>
          <a:stretch/>
        </p:blipFill>
        <p:spPr>
          <a:xfrm>
            <a:off x="914400" y="0"/>
            <a:ext cx="745164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77777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073C-A6BE-444E-A9A7-F02AE09E995D}" type="slidenum">
              <a:rPr b="0" lang="en-GB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1709640"/>
            <a:ext cx="6170760" cy="92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5f5f5f"/>
                </a:solidFill>
                <a:latin typeface="Calibri"/>
              </a:rPr>
              <a:t>Teymisvinna innan heilsugæslu á landsbyggðinni</a:t>
            </a:r>
            <a:endParaRPr b="1" lang="en-US" sz="3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71640" y="4581360"/>
            <a:ext cx="5594400" cy="15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010000"/>
                </a:solidFill>
                <a:latin typeface="Arial"/>
              </a:rPr>
              <a:t>Vorfundur Landssambands heilbrigðisstofnanna 14. apríl 2016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10000"/>
                </a:solidFill>
                <a:latin typeface="Arial"/>
              </a:rPr>
              <a:t>Linda Kristjánsdóttir sviðstjóri lækninga í heilsugæslu HVE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400" spc="-1" strike="noStrike">
                <a:solidFill>
                  <a:srgbClr val="010000"/>
                </a:solidFill>
                <a:latin typeface="Arial"/>
              </a:rPr>
              <a:t>Rósa Marinósdóttir sviðsstjóri hjúkrunar í heilsugæslu HVE</a:t>
            </a: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5640" y="11966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Heilsugæsla er ekki „læknamiðstöð“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56000" y="2244240"/>
            <a:ext cx="5959440" cy="32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10000"/>
                </a:solidFill>
                <a:latin typeface="Arial"/>
              </a:rPr>
              <a:t>Heilsugæslustöðvar sinna heilsugæslu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10000"/>
                </a:solidFill>
                <a:latin typeface="Arial"/>
              </a:rPr>
              <a:t>Með heilsugæslu er m.a. átt við almennar lækningar, hjúkrun, heilsuvernd, forvarnir og bráða- og slysamóttöku.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10000"/>
                </a:solidFill>
                <a:latin typeface="Arial"/>
              </a:rPr>
              <a:t>Skylduhlutverkin eru t.d. ung- og smábarnavernd, skólaheilsugæsla,  mæðravernd og heimahjúkrun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1800" spc="-1" strike="noStrike">
                <a:solidFill>
                  <a:srgbClr val="010000"/>
                </a:solidFill>
                <a:latin typeface="Arial"/>
              </a:rPr>
              <a:t>Getur alls ekki gengið að hugsa um fagstéttirnar sem sjálfstæðar óháðar öðrum, heldur þarf að samnýta þekkingu og krafta til að leysa verkefnin sem best.</a:t>
            </a: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Hvað er teymisvinna?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Fyrir mörgum er það teymisvinna þegar margir aðilar koma að sama vandamáli á sama tíma á sama stað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Í okkar huga er teymisvinna þegar mismunandi fagaðilar vinna að sama marki að leysa vanda skjólstæðingsins, stundum á sama stað á sama tíma og stundum ekki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0000" y="1125360"/>
            <a:ext cx="60958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Hvers erum við bættari með teymisvinnu?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Við tryggjum betra utanumhald þar sem fleiri en einn aðili koma að eftirliti og meðferð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Við nýtum mismunandi þekkingu við lausn vandans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Skjólstæðingur hefur fleiri möguleika á úrlausn síns vanda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Styrkur bæði fyrir fagfólk og skjólstæðing</a:t>
            </a:r>
            <a:r>
              <a:rPr b="0" lang="is-IS" sz="2400" spc="-1" strike="noStrike">
                <a:solidFill>
                  <a:srgbClr val="777777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105264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Teymi á heilsugæslustöðvum HVE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Heimahjúkrun : Teymi sjúkraliða, hjúkrunarfræðings og læknis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Ungbarnanvernd og skólaheilsugæsla: Teymi hjúkrunarfræðings og læknis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Mæðravernd: Teymi ljósmóður og læknis með aðstoð næringarfræðings og væntanlega sálfræðings á næstunni.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105264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5f5f5f"/>
                </a:solidFill>
                <a:latin typeface="Calibri"/>
              </a:rPr>
              <a:t>Teymi á heilsugæslustöðvum HVE frh.</a:t>
            </a:r>
            <a:endParaRPr b="1" lang="en-US" sz="3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10000"/>
                </a:solidFill>
                <a:latin typeface="Arial"/>
              </a:rPr>
              <a:t>Sykursýkismóttaka: Teymi hjúkrunarfræðings og læknis, með aðstoð næringarfræðings, hreyfistjóra og væntalega sálfræðings á næstunni, aðgangur að sérfræðingsþjónustu.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10000"/>
                </a:solidFill>
                <a:latin typeface="Arial"/>
              </a:rPr>
              <a:t>Lífstílsmóttaka: Hjúkrunarmóttaka, vinnur í teymi með lækni, næringarfræðingi, hreyfistjóra og væntanlega sálfræðingi á næstunni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10000"/>
                </a:solidFill>
                <a:latin typeface="Arial"/>
              </a:rPr>
              <a:t>Bráða- og slysamóttaka á dagvinnutíma: Teymi hjúkrunarfræðings og læknis, með aðstoð sjúkraflutninga. </a:t>
            </a: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112500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600" spc="-1" strike="noStrike">
                <a:solidFill>
                  <a:srgbClr val="5f5f5f"/>
                </a:solidFill>
                <a:latin typeface="Calibri"/>
              </a:rPr>
              <a:t>Teymisvinna þar sem verktakar sinna læknisþjónustu</a:t>
            </a:r>
            <a:endParaRPr b="1" lang="en-US" sz="36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10000"/>
                </a:solidFill>
                <a:latin typeface="Arial"/>
              </a:rPr>
              <a:t>Hjúkrunarfræðingur og skjólstæðingur velja lækni í teymið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10000"/>
                </a:solidFill>
                <a:latin typeface="Arial"/>
              </a:rPr>
              <a:t>Sömu læknarnir koma með ákveðnu millibili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10000"/>
                </a:solidFill>
                <a:latin typeface="Arial"/>
              </a:rPr>
              <a:t>Hjúkrunarfræðingurinn stýrir teyminu á þessum heilsugæslustöðvum.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4000" spc="-1" strike="noStrike">
                <a:solidFill>
                  <a:srgbClr val="5f5f5f"/>
                </a:solidFill>
                <a:latin typeface="Calibri"/>
              </a:rPr>
              <a:t>Lokaorð</a:t>
            </a:r>
            <a:endParaRPr b="1" lang="en-US" sz="4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142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Teljum að teymisvinna skili almennt betri árangri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Mælum með að hún sé nýtt á sem flestum stöðum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Mikilvægt að þeir sem sinni afmörkuðum verkefnum haldi sér vel við faglega og geti miðlað sinni þekkingu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10000"/>
                </a:solidFill>
                <a:latin typeface="Arial"/>
              </a:rPr>
              <a:t>Traust þarf að ríkja bæði milli fagfólks og milli sjúklings og fagfólks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4:08:52Z</dcterms:created>
  <dc:creator>Rósa Marinósdóttir</dc:creator>
  <dc:description/>
  <dc:language>en-US</dc:language>
  <cp:lastModifiedBy>Linda Kristjánsdóttir</cp:lastModifiedBy>
  <cp:lastPrinted>2016-04-13T14:06:14Z</cp:lastPrinted>
  <dcterms:modified xsi:type="dcterms:W3CDTF">2016-04-13T21:08:17Z</dcterms:modified>
  <cp:revision>8</cp:revision>
  <dc:subject/>
  <dc:title>PowerPoint Presentation</dc:title>
</cp:coreProperties>
</file>