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40F-9F54-4E53-A603-D97CE732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F14-C27B-4E36-A11F-F5CEA15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9C5-0937-4BAD-B9C4-BC7F5DFF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ABC-4D41-41DD-9406-4415F1C1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D93-9F7C-4580-8CF0-8935814A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B51-726F-4A82-8A9D-AEBC4C34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560-AEC6-48AE-ABB4-E31EA496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445-47B0-426B-AAFF-808F12EE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563-BFB6-43A3-9832-36F594F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105-F0EF-4DE3-A00B-8E31F4F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37B-24A9-42F3-B420-3048BB18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872-C322-4DA0-A37D-9AAB072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8F4-750E-4833-AD6B-74ED90B7ED09}" type="slidenum">
              <a:rPr b="0" lang="is-I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14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ldrun, stærsta v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lbr.stofnana eða verðugt verkefni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32640"/>
            <a:ext cx="6400800" cy="5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fundur LH 30.04. 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ý hjúkrunarrými skapa möguleika á að nýta eldra húsnæði fyrir aðra þjónus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d. sérfræði- og göngudeildarþjónusta, aðstaða fyrir heimahjúkrun og rýmkun fyrir aðra starfse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knar lyflækningar á umdæmis-sjúkrahúsum, samdráttur í skurð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9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ölgun aldraðra og styttri dvalartími á hjúkrunarheimilum krefst sífellt öflugri heimahjúkru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lbrigðisþjónusta í heimahúsum krefst samstarfs ýmissa heilbrigðisstétta, hj.fræðinga, lækna, iðju- og sjúkraþjálfara, sálfræðinga of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starf við félagsþjónus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83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Times New Roman"/>
              </a:rPr>
              <a:t>Niðurstaða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Starfsemi og þjónusta breytist í tímans 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Nýting húsnæðis breytist í samræmi við breyttar þarfir og kröf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Heilsugæsla kjarninn í þjónustun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Stöðugt aukin heilbrigðisþjónusta við aldraða á heilsu.g og í heimahús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Aðstæður ráða hvort heilbr.st. verði með hj.rý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jónarhorn landsbyggða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arf heilbr.stofnanir með fjölda hj.rým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róun síðustu ára og næstu ári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i heilbr.stofnanir að breytast í hj.heimil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tíðarsý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numörkun heilbrigðisyfirva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júkrunarrými – heimahjúkru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róun heilsugæslu-, sérfræði og sjúkrahúsþjónust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æknis- hjúkrunar- og önnur sérfræðiþjónusta við hj.heimili, mönnu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næð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54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Users\MS\AppData\Local\Microsoft\Windows\Temporary Internet Files\Content.Outlook\H2IRLXFU\Heilbrigdisumdaem_og_stofnanir .jpg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fssemi heilbrigðisstofn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lsugæsla, 40 – 5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júkrasvið, 20 – 4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arrými, 10 – 3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59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öldi hjúkrunarrý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tals á landinu um 2500 rý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Þar af á heilbrigðisstofnunum um 350 rými eða ca. 14 %  af heildarfjölda rý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63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árveitingar til hjúkrunarrý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tals um 22,3 milljarðar 20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Þar af hjúkrunarrými á heilbrigðisstofnunum um 3,5 milljarðar eða um 15,5 % af heildarfjárveitingum til hjúkrunarrý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67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dri sjúkrarými hefur víða þurft að nýta sem hjúkrunarrý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fa verið lagfærð misjafnlega miki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jöfn aðstaða, kröfur víða ekki uppfylltar varðandi t.d. einbýli og w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ý hjúkrunarrými t.d. á Selfossi og í byggingu á Ísafirði og Egilsstöð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1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numörkun stjórnval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mahjúkrun, lög um heilbr.þ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 aldraðra, lög um heilbr.þj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arheimili og hjúkrunarrými á öldrunarstofnunum, lög um málefni aldrað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5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0:11:24Z</dcterms:created>
  <dc:creator>Guðjón Davíð</dc:creator>
  <dc:description/>
  <dc:language>en-US</dc:language>
  <cp:lastModifiedBy>Magnús Skúlason</cp:lastModifiedBy>
  <cp:lastPrinted>2014-04-23T09:33:15Z</cp:lastPrinted>
  <dcterms:modified xsi:type="dcterms:W3CDTF">2014-05-08T08:44:55Z</dcterms:modified>
  <cp:revision>38</cp:revision>
  <dc:subject/>
  <dc:title>PowerPoint Presentation</dc:title>
</cp:coreProperties>
</file>