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1BB-C74A-4011-A750-0F33BA4F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CE5-E517-4AEA-A4BC-65899839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A2C-5463-4A6E-B0F2-7CF3CDEA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A89-0F5A-4740-8A1B-0FBED4F7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001A-B542-426A-8215-BB82217F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A6FC-16F0-4700-A1EF-5E790D6C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5992-ACDF-4A24-BC07-18B8424E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4C8E-71D6-4E1E-BFC1-E5EEDC48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DD2A-E699-4700-807D-0AA17E4A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5431-9597-4F40-AD13-4C6CBDC2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FB6A-26F6-4E9F-B675-03D773E8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8C6-9661-481D-AAAF-751556E1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CC76-75C3-4FA5-8D20-3CFAC994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2EC3-0E0A-4CEE-B843-ECF61101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4EBA-F27E-4DF1-B97F-2DAFC5E2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ABC0-3E27-4834-9621-2903F515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E474-4394-4C8E-95B5-A856C80F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FEA-827A-45D9-BF09-77500DF8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C9E-7FBE-407E-94CD-846F84EB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BDD-36FC-40B1-A9C9-2CDF662C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D1C-1618-49CE-9F53-474EE00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39C-9834-431D-8CC8-FB929F2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A6D-5F0E-4413-95DE-D43DD1E6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934-F711-419E-9713-D2481FBB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D390-B8EC-4F26-97DA-ACD8F5D46EE3}" type="slidenum">
              <a:rPr b="0" lang="is-I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ógó bara merkið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788080" cy="6854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Logo_hsa"/>
          <p:cNvPicPr/>
          <p:nvPr/>
        </p:nvPicPr>
        <p:blipFill>
          <a:blip r:embed="rId3"/>
          <a:stretch/>
        </p:blipFill>
        <p:spPr>
          <a:xfrm>
            <a:off x="7380360" y="6089760"/>
            <a:ext cx="13809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Lógó bara merkið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788080" cy="685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ogo_hsa"/>
          <p:cNvPicPr/>
          <p:nvPr/>
        </p:nvPicPr>
        <p:blipFill>
          <a:blip r:embed="rId3"/>
          <a:stretch/>
        </p:blipFill>
        <p:spPr>
          <a:xfrm>
            <a:off x="7380360" y="6089760"/>
            <a:ext cx="1380960" cy="768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0E95-CBAA-4A2F-A693-6A3EE81D158D}" type="slidenum">
              <a:rPr b="0" lang="is-I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122480"/>
            <a:ext cx="9036000" cy="16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800" spc="-1" strike="noStrike">
                <a:solidFill>
                  <a:srgbClr val="000000"/>
                </a:solidFill>
                <a:latin typeface="Arial"/>
              </a:rPr>
              <a:t>Verktaka lækna á lands- </a:t>
            </a:r>
            <a:br>
              <a:rPr sz="4800"/>
            </a:br>
            <a:r>
              <a:rPr b="1" lang="is-IS" sz="4800" spc="-1" strike="noStrike">
                <a:solidFill>
                  <a:srgbClr val="000000"/>
                </a:solidFill>
                <a:latin typeface="Arial"/>
              </a:rPr>
              <a:t>byggðinni; kostir og gall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Pétur Heimisson heimilislæknir</a:t>
            </a:r>
            <a:br>
              <a:rPr sz="2400"/>
            </a:b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                 framkvæmdastjóri lækninga</a:t>
            </a:r>
            <a:br>
              <a:rPr sz="2400"/>
            </a:b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Heilbrigðisstofnun Austu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Hvað veldur – er til ráð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Alþjóðlegt vandam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Byggðaþró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Launakj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Læknanám; skipulag og innih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Stefna/stefnuleysi stjórnva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Arial"/>
              </a:rPr>
              <a:t>Verknám læknanema í heilsugæslu úti á lan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Læknanám við HÍ er 6 ár (vetur)</a:t>
            </a: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Arial"/>
              </a:rPr>
              <a:t>Verknám læknanema í heilsugæslu úti á lan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Læknanám við HÍ er 6 ár (vetur)</a:t>
            </a: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200" spc="-1" strike="noStrike">
                <a:solidFill>
                  <a:srgbClr val="000000"/>
                </a:solidFill>
                <a:latin typeface="Arial"/>
              </a:rPr>
              <a:t>Verknám í heilsugæslu úti á landi  á þessum 6 árum er  </a:t>
            </a:r>
            <a:r>
              <a:rPr b="1" lang="is-IS" sz="3200" spc="-1" strike="noStrike" u="sng">
                <a:solidFill>
                  <a:srgbClr val="000000"/>
                </a:solidFill>
                <a:uFillTx/>
                <a:latin typeface="Arial"/>
              </a:rPr>
              <a:t>5  HEILIR   dagar </a:t>
            </a:r>
            <a:r>
              <a:rPr b="1" lang="is-IS" sz="3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3200"/>
            </a:br>
            <a:r>
              <a:rPr b="1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Við breytingar;  ATHUGIÐ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Lækni skal bara nota þegar við á og annað þjónustustig gagnast ekki a.m.k jafnvel </a:t>
            </a: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Við breytingar;  ATHUGIÐ 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Lækni skal bara nota þegar við á og annað þjónustustig gagnast ekki a.m.k jafnvel </a:t>
            </a:r>
            <a:br>
              <a:rPr sz="2400"/>
            </a:b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Við skömmtun á lækni skal nota minnsta nægilega virkan skammt og hæfilega lengi </a:t>
            </a: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Við breytingar;  ATHUGIÐ 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Lækni skal bara nota þegar við á og annað þjónustustig gagnast ekki a.m.k jafnvel </a:t>
            </a:r>
            <a:br>
              <a:rPr sz="2400"/>
            </a:b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Við skömmtun á lækni skal nota minnsta nægilega virkan skammt og hæfilega lengi </a:t>
            </a:r>
            <a:br>
              <a:rPr sz="2400"/>
            </a:b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Ofskömmtun lyfja er oft mjög hættuleg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880" cy="164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s-IS" sz="6000" spc="-1" strike="noStrike">
                <a:solidFill>
                  <a:srgbClr val="000000"/>
                </a:solidFill>
                <a:latin typeface="Arial"/>
              </a:rPr>
              <a:t>TAKK  FYRIR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Efnistök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Heimildir mínar um verktöku lækn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Með lögum skal land bygg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Hlutverk heilsugæslu á landsbyggði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Um verktökuna sjálfa; umfang, eðli, regl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Hvað veldur og er til ráða 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Helstu heimildir mínar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Ég kem mikið að ráðningum lækna í H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Upplýsingar úr rekstri H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Samtölum við verktakalækna / aðra 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Samtskipti við aðra framkv.stjóra lækn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Lög um heilbrigðisþjónus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3200" spc="-1" strike="noStrike">
                <a:solidFill>
                  <a:srgbClr val="000000"/>
                </a:solidFill>
                <a:latin typeface="Arial"/>
              </a:rPr>
              <a:t>1.gr.  segir m.a. um markmið þeirra að:</a:t>
            </a:r>
            <a:br>
              <a:rPr sz="3200"/>
            </a:br>
            <a:br>
              <a:rPr sz="3200"/>
            </a:b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.............allir landsmenn eigi kost á fullkomnustu heilbrigðisþjónustu sem á hverjum tíma eru tök á að veita til verndar andlegri, líkamlegri og félagslegri heilbrigði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Hlutverk heilsugæslu úti á lan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Er oft eini möguleiki til  fyrstu heilbrigðisþjónustu.</a:t>
            </a:r>
            <a:br>
              <a:rPr sz="2800"/>
            </a:br>
            <a:br>
              <a:rPr sz="2800"/>
            </a:b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Sinnir í byrjun öllum heilsufarsvanda, stórum og smáum, slysum og veikindum, allan sólarhringinn </a:t>
            </a:r>
            <a:br>
              <a:rPr sz="2800"/>
            </a:br>
            <a:br>
              <a:rPr sz="2800"/>
            </a:b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erkefni sem í Rvík deilast á; heilsugæslu, einka-reknar sérfræðistofur, slysadeild Landspítala o.fl.</a:t>
            </a:r>
            <a:br>
              <a:rPr sz="2800"/>
            </a:b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Arial"/>
              </a:rPr>
              <a:t>Læknar í heilsugæslu úti á landi </a:t>
            </a:r>
            <a:br>
              <a:rPr sz="3200"/>
            </a:br>
            <a:r>
              <a:rPr b="1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2" descr=""/>
          <p:cNvPicPr/>
          <p:nvPr/>
        </p:nvPicPr>
        <p:blipFill>
          <a:blip r:embed="rId1"/>
          <a:stretch/>
        </p:blipFill>
        <p:spPr>
          <a:xfrm>
            <a:off x="347760" y="1639800"/>
            <a:ext cx="8339040" cy="448632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Fræðsludagur FÍH 03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70c0"/>
                </a:solidFill>
                <a:latin typeface="Arial"/>
              </a:rPr>
              <a:t>Sjúkrahúslæk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hart 2"/>
          <p:cNvGraphicFramePr/>
          <p:nvPr/>
        </p:nvGraphicFramePr>
        <p:xfrm>
          <a:off x="2073240" y="1793880"/>
          <a:ext cx="5070600" cy="35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Char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3240" y="1793880"/>
                    <a:ext cx="50706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816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70c0"/>
                </a:solidFill>
                <a:latin typeface="Arial"/>
              </a:rPr>
              <a:t>Heilsugæslulæk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Chart 3"/>
          <p:cNvGraphicFramePr/>
          <p:nvPr/>
        </p:nvGraphicFramePr>
        <p:xfrm>
          <a:off x="2000160" y="1793880"/>
          <a:ext cx="521496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793880"/>
                    <a:ext cx="521496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3:52:36Z</dcterms:created>
  <dc:creator>steinunna</dc:creator>
  <dc:description/>
  <dc:language>en-US</dc:language>
  <cp:lastModifiedBy>Rósa Marinósdóttir</cp:lastModifiedBy>
  <dcterms:modified xsi:type="dcterms:W3CDTF">2018-06-05T10:05:58Z</dcterms:modified>
  <cp:revision>168</cp:revision>
  <dc:subject/>
  <dc:title>Slide 1</dc:title>
</cp:coreProperties>
</file>